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8AC96-D000-47BB-8CE2-217022ED603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oOpt, TechG -- A1,  Elites -- A2,  Need more diversity? But latest projections are narrow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oOpt, TechG -- A1,  Elites -- A2,  Need more diversity? But latest projections are narrow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oOpt, TechG -- A1,  Elites -- A2,  Need more diversity? But latest projections are narrow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oOpt, TechG -- A1,  Elites -- A2,  Need more diversity? But latest projections are narrow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oOpt, TechG -- A1,  Elites -- A2,  Need more diversity? But latest projections are narrow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oOpt, TechG -- A1,  Elites -- A2,  Need more diversity? But latest projections are narrow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oOpt, TechG -- A1,  Elites -- A2,  Need more diversity? But latest projections are narrow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oOpt, TechG -- A1,  Elites -- A2,  Need more diversity? But latest projections are narrow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oOpt, TechG -- A1,  Elites -- A2,  Need more diversity? But latest projections are narrow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774D-8CCD-4ADB-9E72-25EC79A5B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6C75-2C1C-4D1D-9664-EDFEDA70B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913D-B238-4D4C-BDFD-7E89BEA26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6108-CC32-4669-BF27-7DB2DBF32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642D-04DA-4F56-ABE6-8EB665F62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995A-1F13-4452-8992-75C8F9EF2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B0E3-C89F-480E-815F-1112BDF4D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73EC-979D-44F5-BE11-3F9DB5AB5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E49B-FE1C-4447-AE46-953F5F886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C69A-F24F-4362-8425-2460C3D9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F077-6794-42EE-8F34-5B1A16ECC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E4DF-BB7E-4E8D-9AB5-8D9C20C7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1DC54-CF32-4A18-947C-A9060608BD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6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9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0" y="0"/>
          <a:ext cx="7467480" cy="2209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46748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0" y="2209680"/>
          <a:ext cx="7467480" cy="2438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209680"/>
                    <a:ext cx="746748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0" y="4648320"/>
          <a:ext cx="7467480" cy="22096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4648320"/>
                    <a:ext cx="746748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7717680" y="1752480"/>
            <a:ext cx="12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orld (205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198560" y="152280"/>
            <a:ext cx="1942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Gra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on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er cap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[kg/cap*a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98960" y="3886200"/>
            <a:ext cx="121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ECD (205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057400" y="1981080"/>
            <a:ext cx="1143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Global Orchestra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05320" y="1981080"/>
            <a:ext cx="91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Techn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Garde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76920" y="1981080"/>
            <a:ext cx="91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Adapting Mosai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19920" y="1981080"/>
            <a:ext cx="1143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Order from Strengt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2057400"/>
            <a:ext cx="914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057400" y="4387680"/>
            <a:ext cx="1143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Global Orchestra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4387680"/>
            <a:ext cx="91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Techn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Garde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76920" y="4387680"/>
            <a:ext cx="91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Adapting Mosai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19920" y="4387680"/>
            <a:ext cx="1143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Order from Strengt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38080" y="4464000"/>
            <a:ext cx="914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84200" y="4968720"/>
            <a:ext cx="123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Sub-Sahari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Africa (205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848720" y="5867280"/>
            <a:ext cx="1295280" cy="97020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ffffff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imes New Roman"/>
              </a:rPr>
              <a:t>MA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imes New Roman"/>
              </a:rPr>
              <a:t>Global Modeling Exercis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imes New Roman"/>
              </a:rPr>
              <a:t>- October 2003 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023320" y="3094200"/>
            <a:ext cx="75960" cy="759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077320" y="300204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MP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947000" y="3017880"/>
            <a:ext cx="968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0" y="0"/>
          <a:ext cx="7467480" cy="2209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46748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0" y="2209680"/>
          <a:ext cx="7467480" cy="2438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209680"/>
                    <a:ext cx="746748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0" y="4648320"/>
          <a:ext cx="7467480" cy="22096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4648320"/>
                    <a:ext cx="746748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7718040" y="1752480"/>
            <a:ext cx="104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Asia (205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98600" y="3886200"/>
            <a:ext cx="103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SU (205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86720" y="4968720"/>
            <a:ext cx="124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NA (205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848720" y="5867280"/>
            <a:ext cx="1295280" cy="97020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ffffff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imes New Roman"/>
              </a:rPr>
              <a:t>MA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imes New Roman"/>
              </a:rPr>
              <a:t>Global Modeling Exercis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imes New Roman"/>
              </a:rPr>
              <a:t>- October 2003 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023320" y="3094200"/>
            <a:ext cx="75960" cy="759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077320" y="300204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MP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947000" y="3017880"/>
            <a:ext cx="968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198560" y="152280"/>
            <a:ext cx="1942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Gra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on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er cap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[kg/cap*a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057400" y="1981080"/>
            <a:ext cx="1143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Global Orchestra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05320" y="1981080"/>
            <a:ext cx="91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Techn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Garde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76920" y="1981080"/>
            <a:ext cx="91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Adapting Mosai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19920" y="1981080"/>
            <a:ext cx="1143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Order from Strengt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2057400"/>
            <a:ext cx="914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57400" y="4387680"/>
            <a:ext cx="1143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Global Orchestra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05320" y="4387680"/>
            <a:ext cx="91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Techn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Garde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876920" y="4387680"/>
            <a:ext cx="91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Adapting Mosai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19920" y="4387680"/>
            <a:ext cx="1143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Order from Strengt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4464000"/>
            <a:ext cx="914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0" y="0"/>
          <a:ext cx="7467480" cy="2209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46748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7719840" y="1752480"/>
            <a:ext cx="111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AM (205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848720" y="5867280"/>
            <a:ext cx="1295280" cy="97020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ffffff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imes New Roman"/>
              </a:rPr>
              <a:t>MA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imes New Roman"/>
              </a:rPr>
              <a:t>Global Modeling Exercis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imes New Roman"/>
              </a:rPr>
              <a:t>- October 2003 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023320" y="3094200"/>
            <a:ext cx="75960" cy="759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077320" y="300204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MP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47000" y="3017880"/>
            <a:ext cx="968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198560" y="152280"/>
            <a:ext cx="1942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Gra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on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er cap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[kg/cap*a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57400" y="1981080"/>
            <a:ext cx="1143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Global Orchestra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1981080"/>
            <a:ext cx="91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Techn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Garde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76920" y="1981080"/>
            <a:ext cx="91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Adapting Mosai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19920" y="1981080"/>
            <a:ext cx="1143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Order from Strengt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2057400"/>
            <a:ext cx="914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0" y="4648320"/>
          <a:ext cx="7467480" cy="2209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648320"/>
                    <a:ext cx="746748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0" y="2209680"/>
          <a:ext cx="7467480" cy="2438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209680"/>
                    <a:ext cx="746748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0" y="0"/>
          <a:ext cx="7467480" cy="22096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746748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7717680" y="1752480"/>
            <a:ext cx="12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orld (205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198560" y="152280"/>
            <a:ext cx="1942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e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on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er cap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[kg/cap*a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98960" y="3886200"/>
            <a:ext cx="121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ECD (205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84200" y="4968720"/>
            <a:ext cx="123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Sub-Sahari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Africa (205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5867280"/>
            <a:ext cx="1295280" cy="97020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ffffff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imes New Roman"/>
              </a:rPr>
              <a:t>MA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imes New Roman"/>
              </a:rPr>
              <a:t>Global Modeling Exercis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imes New Roman"/>
              </a:rPr>
              <a:t>- October 2003 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023320" y="3094200"/>
            <a:ext cx="75960" cy="759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077320" y="300204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MP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947000" y="3017880"/>
            <a:ext cx="968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057400" y="1981080"/>
            <a:ext cx="1143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Global Orchestra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05320" y="1981080"/>
            <a:ext cx="91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Techn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Garde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76920" y="1981080"/>
            <a:ext cx="91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Adapting Mosai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19920" y="1981080"/>
            <a:ext cx="1143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Order from Strengt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38080" y="2057400"/>
            <a:ext cx="914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057400" y="4387680"/>
            <a:ext cx="1143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Global Orchestra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505320" y="4387680"/>
            <a:ext cx="91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Techn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Garde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76920" y="4387680"/>
            <a:ext cx="91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Adapting Mosai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19920" y="4387680"/>
            <a:ext cx="1143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Order from Strengt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38080" y="4464000"/>
            <a:ext cx="914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0" y="4648320"/>
          <a:ext cx="7467480" cy="2209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648320"/>
                    <a:ext cx="746748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0" y="2209680"/>
          <a:ext cx="7467480" cy="2438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209680"/>
                    <a:ext cx="746748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0" y="0"/>
          <a:ext cx="7467480" cy="22096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746748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7718040" y="1752480"/>
            <a:ext cx="104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Asia (205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98600" y="3886200"/>
            <a:ext cx="103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SU (205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86720" y="4968720"/>
            <a:ext cx="124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NA (205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848720" y="5867280"/>
            <a:ext cx="1295280" cy="97020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ffffff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imes New Roman"/>
              </a:rPr>
              <a:t>MA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imes New Roman"/>
              </a:rPr>
              <a:t>Global Modeling Exercis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imes New Roman"/>
              </a:rPr>
              <a:t>- October 2003 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023320" y="3094200"/>
            <a:ext cx="75960" cy="759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077320" y="300204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MP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947000" y="3017880"/>
            <a:ext cx="968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198560" y="152280"/>
            <a:ext cx="1942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e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on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er cap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[kg/cap*a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057400" y="1981080"/>
            <a:ext cx="1143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Global Orchestra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05320" y="1981080"/>
            <a:ext cx="91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Techn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Garde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76920" y="1981080"/>
            <a:ext cx="91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Adapting Mosai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19920" y="1981080"/>
            <a:ext cx="1143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Order from Strengt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38080" y="2057400"/>
            <a:ext cx="914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057400" y="4387680"/>
            <a:ext cx="1143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Global Orchestra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505320" y="4387680"/>
            <a:ext cx="91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Techn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Garde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76920" y="4387680"/>
            <a:ext cx="91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Adapting Mosai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19920" y="4387680"/>
            <a:ext cx="1143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Order from Strengt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38080" y="4464000"/>
            <a:ext cx="914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0" y="0"/>
          <a:ext cx="7467480" cy="2209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46748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7719840" y="1752480"/>
            <a:ext cx="111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AM (205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848720" y="5867280"/>
            <a:ext cx="1295280" cy="97020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ffffff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imes New Roman"/>
              </a:rPr>
              <a:t>MA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imes New Roman"/>
              </a:rPr>
              <a:t>Global Modeling Exercis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imes New Roman"/>
              </a:rPr>
              <a:t>- October 2003 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023320" y="3094200"/>
            <a:ext cx="75960" cy="759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077320" y="300204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MP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947000" y="3017880"/>
            <a:ext cx="968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198560" y="152280"/>
            <a:ext cx="1942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e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on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er cap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[kg/cap*a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057400" y="1981080"/>
            <a:ext cx="1143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Global Orchestra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505320" y="1981080"/>
            <a:ext cx="91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Techn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Garde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876920" y="1981080"/>
            <a:ext cx="91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Adapting Mosai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19920" y="1981080"/>
            <a:ext cx="1143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Order from Strengt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8080" y="2057400"/>
            <a:ext cx="914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0" y="0"/>
          <a:ext cx="7467480" cy="2209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46748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0" y="2209680"/>
          <a:ext cx="7467480" cy="22100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209680"/>
                    <a:ext cx="7467480" cy="22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0" y="4648320"/>
          <a:ext cx="7467480" cy="22096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4648320"/>
                    <a:ext cx="746748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7717680" y="1752480"/>
            <a:ext cx="120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orld (205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198560" y="152280"/>
            <a:ext cx="1942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Fis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on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er cap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[kg/cap*a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698960" y="3886200"/>
            <a:ext cx="121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ECD (205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684200" y="4968720"/>
            <a:ext cx="123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Sub-Sahari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Africa (205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848720" y="5867280"/>
            <a:ext cx="1295280" cy="97020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ffffff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imes New Roman"/>
              </a:rPr>
              <a:t>MA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imes New Roman"/>
              </a:rPr>
              <a:t>Global Modeling Exercis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imes New Roman"/>
              </a:rPr>
              <a:t>- October 2003 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023320" y="3094200"/>
            <a:ext cx="75960" cy="759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077320" y="300204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MP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947000" y="3017880"/>
            <a:ext cx="968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057400" y="1981080"/>
            <a:ext cx="1143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Global Orchestra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505320" y="1981080"/>
            <a:ext cx="91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Techn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Garde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76920" y="1981080"/>
            <a:ext cx="91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Adapting Mosai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19920" y="1981080"/>
            <a:ext cx="1143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Order from Strengt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080" y="2057400"/>
            <a:ext cx="914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057400" y="4387680"/>
            <a:ext cx="1143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Global Orchestra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505320" y="4387680"/>
            <a:ext cx="91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Techn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Garde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4387680"/>
            <a:ext cx="91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Adapting Mosai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19920" y="4387680"/>
            <a:ext cx="1143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Order from Strengt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38080" y="4464000"/>
            <a:ext cx="914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"/>
          <p:cNvGraphicFramePr/>
          <p:nvPr/>
        </p:nvGraphicFramePr>
        <p:xfrm>
          <a:off x="0" y="0"/>
          <a:ext cx="7467480" cy="2209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46748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0" y="2209680"/>
          <a:ext cx="7467480" cy="22100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209680"/>
                    <a:ext cx="7467480" cy="22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0" y="4648320"/>
          <a:ext cx="7467480" cy="22096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4648320"/>
                    <a:ext cx="746748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"/>
          <p:cNvSpPr/>
          <p:nvPr/>
        </p:nvSpPr>
        <p:spPr>
          <a:xfrm>
            <a:off x="7718040" y="1752480"/>
            <a:ext cx="104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Times New Roman"/>
              </a:rPr>
              <a:t>Asia (205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98600" y="3886200"/>
            <a:ext cx="103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SU (205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686720" y="4968720"/>
            <a:ext cx="124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NA (205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848720" y="5867280"/>
            <a:ext cx="1295280" cy="97020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ffffff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imes New Roman"/>
              </a:rPr>
              <a:t>MA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imes New Roman"/>
              </a:rPr>
              <a:t>Global Modeling Exercis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imes New Roman"/>
              </a:rPr>
              <a:t>- October 2003 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023320" y="3094200"/>
            <a:ext cx="75960" cy="759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077320" y="300204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MP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947000" y="3017880"/>
            <a:ext cx="968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98560" y="152280"/>
            <a:ext cx="1942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Fis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on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er cap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[kg/cap*a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057400" y="1981080"/>
            <a:ext cx="1143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Global Orchestra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1981080"/>
            <a:ext cx="91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Techn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Garde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76920" y="1981080"/>
            <a:ext cx="91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Adapting Mosai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019920" y="1981080"/>
            <a:ext cx="1143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Order from Strengt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38080" y="2057400"/>
            <a:ext cx="914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4387680"/>
            <a:ext cx="1143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Global Orchestra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4387680"/>
            <a:ext cx="91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Techn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Garde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876920" y="4387680"/>
            <a:ext cx="91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Adapting Mosai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19920" y="4387680"/>
            <a:ext cx="1143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Order from Strengt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38080" y="4464000"/>
            <a:ext cx="914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"/>
          <p:cNvGraphicFramePr/>
          <p:nvPr/>
        </p:nvGraphicFramePr>
        <p:xfrm>
          <a:off x="0" y="0"/>
          <a:ext cx="7467480" cy="2209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46748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7719840" y="1752480"/>
            <a:ext cx="111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AM (205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848720" y="5867280"/>
            <a:ext cx="1295280" cy="97020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ffffff"/>
              </a:gs>
              <a:gs pos="100000">
                <a:srgbClr val="eaeaea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imes New Roman"/>
              </a:rPr>
              <a:t>MA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imes New Roman"/>
              </a:rPr>
              <a:t>Global Modeling Exercis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imes New Roman"/>
              </a:rPr>
              <a:t>- October 2003 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023320" y="3094200"/>
            <a:ext cx="75960" cy="759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077320" y="300204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MP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947000" y="3017880"/>
            <a:ext cx="9684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198560" y="152280"/>
            <a:ext cx="1942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Fis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on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er cap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[kg/cap*a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81080"/>
            <a:ext cx="1143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Global Orchestrat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505320" y="1981080"/>
            <a:ext cx="91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Techn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Garde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876920" y="1981080"/>
            <a:ext cx="914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Adapting Mosaic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19920" y="1981080"/>
            <a:ext cx="1143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Order from Strengt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38080" y="2057400"/>
            <a:ext cx="914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Curren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2T08:13:56Z</dcterms:created>
  <dc:creator>Super User</dc:creator>
  <dc:description/>
  <dc:language>en-US</dc:language>
  <cp:lastModifiedBy>Super User</cp:lastModifiedBy>
  <dcterms:modified xsi:type="dcterms:W3CDTF">2003-10-29T14:21:52Z</dcterms:modified>
  <cp:revision>9</cp:revision>
  <dc:subject/>
  <dc:title>PowerPoint-Präsentation</dc:title>
</cp:coreProperties>
</file>