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9484-F720-4832-B386-9523BC0F81C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B80-19D0-43ED-A4C1-346E4A4A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5BE-7118-483F-906B-57EAE0F4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21E-CA3E-4357-8F18-2C57564E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1E7-2632-4CF2-9703-86948358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2D3-0FF6-4F06-BB2B-674D7669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44A-44E9-4041-ADF2-75C6D2F4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90C-8C23-48FC-A76F-6CFD3CFE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0BE-C714-4EE1-92CB-2F71823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601-2D84-40E0-8821-708DDBEC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F2C-D325-494F-B583-F8131B5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14C-BEFE-4798-BF97-A530CD05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2A1-8C5F-41E0-BB19-0705F1F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AAA0-32BC-4F1D-AA47-EA59EC67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1143000"/>
            <a:ext cx="73152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terGAP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wing high climate sensitivity discharge (4,5) and low climate sensitivity discharge (2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G without climate policy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754380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0" y="2209680"/>
          <a:ext cx="7543800" cy="24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5438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4648320"/>
          <a:ext cx="754380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754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717680" y="17524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l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49480" y="195120"/>
            <a:ext cx="1707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1.000km³/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8960" y="38862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EC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84200" y="4968720"/>
            <a:ext cx="12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b-Sah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fric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819520"/>
            <a:ext cx="1371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3170160"/>
            <a:ext cx="76320" cy="76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26400" y="284940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ow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26400" y="304812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igh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971800"/>
            <a:ext cx="76320" cy="76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754380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0" y="2209680"/>
          <a:ext cx="7543800" cy="24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5438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4648320"/>
          <a:ext cx="754380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754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7718040" y="17524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si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49480" y="195120"/>
            <a:ext cx="1707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1.000km³/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8600" y="388620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SU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86720" y="49687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2819520"/>
            <a:ext cx="1371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3170160"/>
            <a:ext cx="76320" cy="76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26400" y="284940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ow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26400" y="304812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igh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2971800"/>
            <a:ext cx="76320" cy="76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754380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543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719840" y="175248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M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49480" y="195120"/>
            <a:ext cx="1707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1.000km³/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2819520"/>
            <a:ext cx="1371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170160"/>
            <a:ext cx="76320" cy="76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26400" y="284940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low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26400" y="304812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igh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971800"/>
            <a:ext cx="76320" cy="76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8:13:56Z</dcterms:created>
  <dc:creator>Super User</dc:creator>
  <dc:description/>
  <dc:language>en-US</dc:language>
  <cp:lastModifiedBy>Super User</cp:lastModifiedBy>
  <dcterms:modified xsi:type="dcterms:W3CDTF">2003-11-01T16:41:43Z</dcterms:modified>
  <cp:revision>5</cp:revision>
  <dc:subject/>
  <dc:title>PowerPoint-Präsentation</dc:title>
</cp:coreProperties>
</file>